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15D4-61CB-472A-87E4-394E0E9B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3B49-C2CB-45D3-AABA-40F2B3E1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25A3-B01C-4614-96F1-3DC89434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14F2-D2AC-4F39-9E32-9190690E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6839-9D34-4F7F-A900-898E2B91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F38-8A34-4D91-9FC7-4EC443A8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0E96-75DC-4210-8AB7-B3305819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0983-9EA0-4B2E-B27A-AE1AC309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8169-5C54-45A4-B018-B0ADF602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CE78-6FBE-4947-9E0D-B83B2300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418-97C5-46EE-8708-DADD207F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5E29-80A1-40A0-8976-1E5474A7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D685-3A9A-4D12-BDB4-2ECA368759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603360" y="1914480"/>
            <a:ext cx="793116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2"/>
          <a:stretch/>
        </p:blipFill>
        <p:spPr>
          <a:xfrm>
            <a:off x="420840" y="274680"/>
            <a:ext cx="8242200" cy="1657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Вопрос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то такое га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Гипотез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руг вокруг солн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птическое явление в атмосфере, возникающее из-за преломления и отражения св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20840" y="274680"/>
            <a:ext cx="8242200" cy="1657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Вопрос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Какой бывает заря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Гипотез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рас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ранже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Желт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зноцвет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Заголовок 1" descr=""/>
          <p:cNvPicPr/>
          <p:nvPr/>
        </p:nvPicPr>
        <p:blipFill>
          <a:blip r:embed="rId2"/>
          <a:stretch/>
        </p:blipFill>
        <p:spPr>
          <a:xfrm>
            <a:off x="378000" y="268200"/>
            <a:ext cx="8437320" cy="115884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2" descr=""/>
          <p:cNvPicPr/>
          <p:nvPr/>
        </p:nvPicPr>
        <p:blipFill>
          <a:blip r:embed="rId3"/>
          <a:stretch/>
        </p:blipFill>
        <p:spPr>
          <a:xfrm>
            <a:off x="311040" y="1511280"/>
            <a:ext cx="838224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Заголовок 1"/>
          <p:cNvGrpSpPr/>
          <p:nvPr/>
        </p:nvGrpSpPr>
        <p:grpSpPr>
          <a:xfrm>
            <a:off x="1139760" y="92160"/>
            <a:ext cx="6931080" cy="1498680"/>
            <a:chOff x="1139760" y="92160"/>
            <a:chExt cx="6931080" cy="1498680"/>
          </a:xfrm>
        </p:grpSpPr>
        <p:pic>
          <p:nvPicPr>
            <p:cNvPr id="43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139760" y="92160"/>
              <a:ext cx="693108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428840" y="357120"/>
              <a:ext cx="635796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2060"/>
                  </a:solidFill>
                  <a:latin typeface="Comic Sans MS"/>
                </a:rPr>
                <a:t>Детские вопрос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0253f"/>
                </a:solidFill>
                <a:latin typeface="Arial Narrow"/>
              </a:rPr>
              <a:t>С самого детства нас тревожит множество вопросов: «Где живет солнышко?», «Где заканчивается небо?», «Откуда растет радуга?» ,«Почему небо голубое?» и многие друг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0253f"/>
                </a:solidFill>
                <a:latin typeface="Arial Narrow"/>
              </a:rPr>
              <a:t>Физика при помощи казалось бы ненужных теорий и законов способна дать ответ на все эти вопрос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0253f"/>
                </a:solidFill>
                <a:latin typeface="Arial Narrow"/>
              </a:rPr>
              <a:t>Рассматривая явления солнечного света, мы попытаемся ответить на некоторые из н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2"/>
          <a:stretch/>
        </p:blipFill>
        <p:spPr>
          <a:xfrm>
            <a:off x="676440" y="1566720"/>
            <a:ext cx="8351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92160" y="79200"/>
            <a:ext cx="8820000" cy="153684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2" descr=""/>
          <p:cNvPicPr/>
          <p:nvPr/>
        </p:nvPicPr>
        <p:blipFill>
          <a:blip r:embed="rId3"/>
          <a:stretch/>
        </p:blipFill>
        <p:spPr>
          <a:xfrm>
            <a:off x="353880" y="1689120"/>
            <a:ext cx="84726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2"/>
          <a:stretch/>
        </p:blipFill>
        <p:spPr>
          <a:xfrm>
            <a:off x="420840" y="274680"/>
            <a:ext cx="8242200" cy="1657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Вопрос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то такое атмосферная опти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Гипотез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ука о явлениях, происходящих в атмосфе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ука о природе св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ука о небе и небесных я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2"/>
          <a:stretch/>
        </p:blipFill>
        <p:spPr>
          <a:xfrm>
            <a:off x="420840" y="274680"/>
            <a:ext cx="8242200" cy="1657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Вопрос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то значит для нас Солнц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Гипотез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олнце – это главный источник энергии, тепла и св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ез Солнца Земля была бы темной и холодной планет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ез Солнца не было бы жизни на Зем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420840" y="274680"/>
            <a:ext cx="8242200" cy="1657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Вопрос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то такое небесный свод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Гипотез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идимый небесный куп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асть неба, кажущаяся приплюснутым полушаром голубого цв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2"/>
          <a:stretch/>
        </p:blipFill>
        <p:spPr>
          <a:xfrm>
            <a:off x="420840" y="274680"/>
            <a:ext cx="8242200" cy="1657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Вопрос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чему небо голубо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Гипотез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з-за прохождения лучей Солнца через обл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з-за собственного цвета составных частей возд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з-за рассеяния св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2"/>
          <a:stretch/>
        </p:blipFill>
        <p:spPr>
          <a:xfrm>
            <a:off x="420840" y="274680"/>
            <a:ext cx="8242200" cy="1657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Вопрос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чему небо голубо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Гипотез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з-за прохождения лучей Солнца через обл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з-за собственного цвета составных частей возд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з-за рассеяния св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6080</cp:lastModifiedBy>
  <dcterms:modified xsi:type="dcterms:W3CDTF">2010-05-26T10:38:43Z</dcterms:modified>
  <cp:revision>21</cp:revision>
  <dc:subject/>
  <dc:title>Слайд 1</dc:title>
</cp:coreProperties>
</file>